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13.jpeg" ContentType="image/jpeg"/>
  <Override PartName="/ppt/media/image10.jpeg" ContentType="image/jpeg"/>
  <Override PartName="/ppt/media/image11.jpeg" ContentType="image/jpeg"/>
  <Override PartName="/ppt/media/image1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0510D-422D-4816-AFC1-01B49934E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F51BA-EA01-4EA3-AE87-FFDC3D6AA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ADCE3-51BF-4D60-99D4-BCB205152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C465C-D793-4081-9294-0555043CF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A5583-3D98-4749-97B2-AD6A25466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50DE1-567C-4C14-BF05-13B700E15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5A9BC-E3A2-4F73-867A-F7A720CB2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D8D52-0BA6-42C3-A97E-79B16C89A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4E7DC-2E4D-40D2-BF2F-B7EB88F03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5FF16-F5E2-4DBA-B3BB-B1A936E2D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9463F-EC3F-4EE7-9D02-74CAD1E7C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900A0-2CA9-4C06-AD93-11497CEA6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C4C7F-03B7-4CDA-8692-1AF660D29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EB4C2-96F1-4883-A256-B977C9D68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9CA2F-3A1A-4500-B795-DE50E4B61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B3169-2D47-4AB0-A1BD-043E2C2BE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9A656-1F15-4DB1-B302-C1B37D2A7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0056A7-AC2A-4B5F-A81B-E8814AC30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4877BB-1621-466A-963B-E334082B9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7D57C8-91F2-4393-B075-31DE9A68F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C7E2D8-4BEE-4E1B-85AC-12B2B9969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733DB5-8496-4B02-886A-CBE3F1816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FC3B7-469F-4A8A-AA42-A0D795FF1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41197B-8677-4246-8BDB-7329E126F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2CDC7E-4A77-46AC-8642-8BBF475C8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1422BA-9FBB-4BBD-9341-D247D9001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4D1F08-4715-4610-A10E-9F724AD01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FA298E-4A7D-4EDE-9DB6-FDC2DCB02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9844AC-2808-4241-933F-B0C1FF197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67DC5A-9ABB-4D10-81A4-5ECEC080A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FBE1DE-82DD-419A-B013-A40B0E298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C24403-DFCC-40F6-B4C5-0A8ACE0F0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F62F98-88AB-42AC-AFAD-99E1B7EDF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B9E9E-4C7A-42BE-B428-81AFFD758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CF5482-138D-40E0-B7A3-01C95AE41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DBDF92-0BC7-4D0B-8BEA-62E3CB324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531C55-FE8C-4F42-8B14-123CA92A2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64E09B-CD36-4639-BE1B-5FBA76BD1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27BC25-0DF3-488D-BC8C-02443DD4A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D44079-27C7-4835-90C6-1212EB882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0D387B-6581-4EB8-903E-3FA76809B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5E5A61-97BB-4E70-BA26-B2765DEEA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4D457F-9CC0-4652-9A05-7435E2D6A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BA354-9DF3-46AA-9D7E-75A9D0CDB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BEA4C-EDC9-4F0F-A31F-5FA6620A2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5C276-DC78-487F-A8DD-7D5F5DA6F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4E536-F7DA-4816-8D76-49816F9EF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F3562-C7F6-4DF4-B6A5-2289C9EC9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F8E4D-7D1B-4EA9-ACD8-233B4E65E8E7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3AA18-DF0A-4733-9347-045C74AC8654}" type="slidenum">
              <a:rPr b="0" lang="en-US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A02A3-82F9-4024-8B7B-4FF5ED47D40F}" type="slidenum">
              <a:rPr b="0" lang="en-US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01EB3-1ACE-4A1C-AC55-1B2273049EF3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s://upload.wikimedia.org/wikipedia/commons/f/fb/Meselson-stahl_experiment_diagram_en.svg" TargetMode="Externa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s://www.google.rs/url?sa=i&amp;rct=j&amp;q=&amp;esrc=s&amp;source=images&amp;cd=&amp;cad=rja&amp;uact=8&amp;ved=0ahUKEwj1uMvk5s3MAhVDcBoKHcy6DAAQjRwIBw&amp;url=https%3A%2F%2Fwww.mun.ca%2Fbiology%2Fscarr%2FiGen3_03-01.html&amp;psig=AFQjCNFGr1XLxnRIcVULs-3FrgoxuW5_uw&amp;ust=1462911120822401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33520" y="137124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800" spc="-1" strike="noStrike">
                <a:solidFill>
                  <a:srgbClr val="dbf5f9"/>
                </a:solidFill>
                <a:latin typeface="Arial"/>
              </a:rPr>
              <a:t>РЕПЛИКАЦИЈА</a:t>
            </a:r>
            <a:endParaRPr b="0" lang="en-US" sz="4800" spc="-1" strike="noStrike">
              <a:solidFill>
                <a:srgbClr val="dbf5f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cc"/>
                </a:solidFill>
                <a:latin typeface="Calibri"/>
              </a:rPr>
              <a:t>Репликација је савршено контролисана и регулисана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236232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Грешке у спаривању најчешће настају због таутомерних пр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мена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 азотних база (прелази Н атом са једне на другу позицију унутар молекула базе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 u="sng">
                <a:solidFill>
                  <a:srgbClr val="000000"/>
                </a:solidFill>
                <a:uFillTx/>
                <a:latin typeface="Arial"/>
              </a:rPr>
              <a:t>Пример: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= A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       енолни облик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T-G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       репликациј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G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≡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C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  <a:ea typeface="Arial"/>
              </a:rPr>
              <a:t>≡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  <a:ea typeface="Arial"/>
              </a:rPr>
              <a:t>G       имино облик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C-A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  <a:ea typeface="Arial"/>
              </a:rPr>
              <a:t> репликациј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  <a:ea typeface="Arial"/>
              </a:rPr>
              <a:t> A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256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ff"/>
                </a:solidFill>
                <a:latin typeface="Arial"/>
              </a:rPr>
              <a:t>Транзиције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мења се пурин пурином и пиримидин пиримидином </a:t>
            </a:r>
            <a:br>
              <a:rPr sz="2400"/>
            </a:br>
            <a:r>
              <a:rPr b="1" i="1" lang="fr-FR" sz="2400" spc="-1" strike="noStrike">
                <a:solidFill>
                  <a:srgbClr val="6600ff"/>
                </a:solidFill>
                <a:latin typeface="Arial"/>
              </a:rPr>
              <a:t>Трансверзије</a:t>
            </a:r>
            <a:r>
              <a:rPr b="1" i="1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мења се пурин пиримидином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и обратно</a:t>
            </a:r>
            <a:br>
              <a:rPr sz="2400"/>
            </a:b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6" name="Picture 2" descr="http://www.zoology.ubc.ca/genetics/transisverstable.gif"/>
          <p:cNvPicPr/>
          <p:nvPr/>
        </p:nvPicPr>
        <p:blipFill>
          <a:blip r:embed="rId1"/>
          <a:stretch/>
        </p:blipFill>
        <p:spPr>
          <a:xfrm>
            <a:off x="30240" y="3276720"/>
            <a:ext cx="2789280" cy="289548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4" descr="http://www.mun.ca/biology/scarr/iGen3_07-03_Figure-Lab.jpg"/>
          <p:cNvPicPr/>
          <p:nvPr/>
        </p:nvPicPr>
        <p:blipFill>
          <a:blip r:embed="rId2"/>
          <a:stretch/>
        </p:blipFill>
        <p:spPr>
          <a:xfrm>
            <a:off x="3009960" y="2992320"/>
            <a:ext cx="6095880" cy="31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  <a:ea typeface="Arial"/>
              </a:rPr>
              <a:t>Спонтана стопа мутације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2590920"/>
            <a:ext cx="82296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Спонтана стопа мутације </a:t>
            </a:r>
            <a:r>
              <a:rPr b="0" lang="fr-FR" sz="2800" spc="-1" strike="noStrike">
                <a:solidFill>
                  <a:srgbClr val="ff0000"/>
                </a:solidFill>
                <a:latin typeface="Arial"/>
              </a:rPr>
              <a:t>по гену износи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ff0000"/>
                </a:solidFill>
                <a:latin typeface="Arial"/>
              </a:rPr>
              <a:t>-4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-10</a:t>
            </a:r>
            <a:r>
              <a:rPr b="0" lang="en-US" sz="2800" spc="-1" strike="noStrike" baseline="30000">
                <a:solidFill>
                  <a:srgbClr val="ff0000"/>
                </a:solidFill>
                <a:latin typeface="Arial"/>
              </a:rPr>
              <a:t>-6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понтана стопа мутације </a:t>
            </a:r>
            <a:r>
              <a:rPr b="0" lang="sr-CS" sz="2800" spc="-1" strike="noStrike">
                <a:solidFill>
                  <a:srgbClr val="ff0000"/>
                </a:solidFill>
                <a:latin typeface="Arial"/>
              </a:rPr>
              <a:t>по нуклеотиду износи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10</a:t>
            </a:r>
            <a:r>
              <a:rPr b="0" lang="sr-RS" sz="2800" spc="-1" strike="noStrike" baseline="30000">
                <a:solidFill>
                  <a:srgbClr val="ff0000"/>
                </a:solidFill>
                <a:latin typeface="Arial"/>
              </a:rPr>
              <a:t>8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-10</a:t>
            </a:r>
            <a:r>
              <a:rPr b="0" lang="sr-RS" sz="2800" spc="-1" strike="noStrike" baseline="30000">
                <a:solidFill>
                  <a:srgbClr val="ff0000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Р</a:t>
            </a:r>
            <a:r>
              <a:rPr b="0" lang="sr-CS" sz="5000" spc="-1" strike="noStrike">
                <a:solidFill>
                  <a:srgbClr val="04617b"/>
                </a:solidFill>
                <a:latin typeface="Calibri"/>
              </a:rPr>
              <a:t>епликациј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539640" y="2349000"/>
            <a:ext cx="8229600" cy="20703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dd9"/>
                </a:solidFill>
                <a:latin typeface="Constantia"/>
              </a:rPr>
              <a:t>https://www.youtube.com/watch?v=TNKWgcFPHqwhttps://www.youtube.com/watch?v=TNKWgcFPHqw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Arial"/>
              </a:rPr>
              <a:t>Репликација (удвајање) ДНК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ДНК је једини познати молекул који има способност ауторепродукциј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19040" indent="-3826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marL="419040" indent="-3826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шава се у </a:t>
            </a:r>
            <a:r>
              <a:rPr b="1" i="1" lang="sr-Latn-C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фази интерфаз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када су хромозоми у деспирализованом стању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19040" indent="-3826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marL="419040" indent="-3826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19040" indent="-3826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М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елсон и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Ш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тал (1958.) су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својим експериментима показали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да се репликација одвија на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sr-Latn-CS" sz="2400" spc="-1" strike="noStrike">
                <a:solidFill>
                  <a:srgbClr val="ff0000"/>
                </a:solidFill>
                <a:latin typeface="Arial"/>
              </a:rPr>
              <a:t>полуконзервативан </a:t>
            </a:r>
            <a:r>
              <a:rPr b="0" lang="sr-Latn-CS" sz="24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0" i="1" lang="sr-Latn-CS" sz="2400" spc="-1" strike="noStrike">
                <a:solidFill>
                  <a:srgbClr val="ff0000"/>
                </a:solidFill>
                <a:latin typeface="Arial"/>
              </a:rPr>
              <a:t>семиконзервативан</a:t>
            </a:r>
            <a:r>
              <a:rPr b="0" lang="sr-Latn-CS" sz="24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начин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  <a:ea typeface="Arial"/>
              </a:rPr>
              <a:t>Експеримент Мезелсона и Штал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99" name="Picture 2" descr="File:Meselson-stahl experiment diagram en.sv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905120" y="2098800"/>
            <a:ext cx="487656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Репликација се дешава на семиконзервативан начин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1" name="Picture 5" descr="https://www.mun.ca/biology/scarr/iGen3_03-01_Figure-L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" y="2133720"/>
            <a:ext cx="822960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4617b"/>
                </a:solidFill>
                <a:latin typeface="Arial"/>
              </a:rPr>
              <a:t>Ензими репликације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609120" y="1371240"/>
            <a:ext cx="72392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-59724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Хеликазе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97240" indent="-59724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Топоизомеразе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97240" indent="-59724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SB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 протеини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97240" indent="-59724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Нуклеазе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97240" indent="-597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sr-CS" sz="2400" spc="-1" strike="noStrike">
                <a:solidFill>
                  <a:srgbClr val="000000"/>
                </a:solidFill>
                <a:latin typeface="Arial"/>
              </a:rPr>
              <a:t>1. Ендонуклеазе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97240" indent="-597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sr-CS" sz="24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i="1" lang="sr-CS" sz="2400" spc="-1" strike="noStrike">
                <a:solidFill>
                  <a:srgbClr val="000000"/>
                </a:solidFill>
                <a:latin typeface="Arial"/>
              </a:rPr>
              <a:t>гзонуклеазе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97240" indent="-59724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Полимеразе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(ДНК-полимеразе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97240" indent="-597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DNK poly I,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97240" indent="-597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sr-C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DNK poly II,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97240" indent="-597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sr-C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DNK poly III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97240" indent="-597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CS" sz="2400" spc="-1" strike="noStrike">
                <a:solidFill>
                  <a:srgbClr val="0000ff"/>
                </a:solidFill>
                <a:latin typeface="Arial"/>
              </a:rPr>
              <a:t>РНК полимераза </a:t>
            </a:r>
            <a:r>
              <a:rPr b="0" lang="sr-Latn-CS" sz="2400" spc="-1" strike="noStrike">
                <a:solidFill>
                  <a:srgbClr val="0000ff"/>
                </a:solidFill>
                <a:latin typeface="Arial"/>
              </a:rPr>
              <a:t>-</a:t>
            </a:r>
            <a:r>
              <a:rPr b="0" lang="sr-C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ff"/>
                </a:solidFill>
                <a:latin typeface="Arial"/>
              </a:rPr>
              <a:t>примаз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97240" indent="-59724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Лигаз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-360" y="990360"/>
            <a:ext cx="48006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Репликација код еукариота се дешава на више места дуж хромозома у  исто време,  у правцу </a:t>
            </a:r>
            <a:r>
              <a:rPr b="0" lang="sr-RS" sz="2800" spc="-1" strike="noStrike">
                <a:solidFill>
                  <a:srgbClr val="000000"/>
                </a:solidFill>
                <a:latin typeface="Constantia"/>
              </a:rPr>
              <a:t>5</a:t>
            </a:r>
            <a:r>
              <a:rPr b="0" lang="sr-RS" sz="2800" spc="-1" strike="noStrike" baseline="30000">
                <a:solidFill>
                  <a:srgbClr val="000000"/>
                </a:solidFill>
                <a:latin typeface="Constantia"/>
              </a:rPr>
              <a:t>'</a:t>
            </a:r>
            <a:r>
              <a:rPr b="0" lang="sr-RS" sz="2800" spc="-1" strike="noStrike">
                <a:solidFill>
                  <a:srgbClr val="000000"/>
                </a:solidFill>
                <a:latin typeface="Constantia"/>
              </a:rPr>
              <a:t>-3</a:t>
            </a:r>
            <a:r>
              <a:rPr b="0" lang="sr-RS" sz="2800" spc="-1" strike="noStrike" baseline="30000">
                <a:solidFill>
                  <a:srgbClr val="000000"/>
                </a:solidFill>
                <a:latin typeface="Constantia"/>
              </a:rPr>
              <a:t>'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Не почиње на самом крају ланца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5" name="Picture 4" descr="ReplicationBubbles"/>
          <p:cNvPicPr/>
          <p:nvPr/>
        </p:nvPicPr>
        <p:blipFill>
          <a:blip r:embed="rId1"/>
          <a:stretch/>
        </p:blipFill>
        <p:spPr>
          <a:xfrm>
            <a:off x="5562720" y="1371600"/>
            <a:ext cx="2722320" cy="42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228240" y="1294920"/>
            <a:ext cx="43434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оцесу репликације претходи иницијација репликације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У иницијацији настаје пререпликациони комплекс (комплекс протеина који настаје на месту почетка репликације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lication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оrigin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7" name="Picture 4" descr="replication3"/>
          <p:cNvPicPr/>
          <p:nvPr/>
        </p:nvPicPr>
        <p:blipFill>
          <a:blip r:embed="rId1"/>
          <a:stretch/>
        </p:blipFill>
        <p:spPr>
          <a:xfrm>
            <a:off x="4876920" y="1447920"/>
            <a:ext cx="3976560" cy="36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0" y="144792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Репликација т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ече у исто време на оба ланца у правцу 5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`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`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, а пошто су они антипаралелни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на једном тече од краја ка средишту репликацион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виљушке, а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на другом од средишта ка крају репликационе виљушк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9" name="Picture 3" descr="DNArep1"/>
          <p:cNvPicPr/>
          <p:nvPr/>
        </p:nvPicPr>
        <p:blipFill>
          <a:blip r:embed="rId1"/>
          <a:stretch/>
        </p:blipFill>
        <p:spPr>
          <a:xfrm>
            <a:off x="4400640" y="1295280"/>
            <a:ext cx="4743360" cy="4548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1. На </a:t>
            </a:r>
            <a:r>
              <a:rPr b="1" lang="sr-CS" sz="2000" spc="-1" strike="noStrike">
                <a:solidFill>
                  <a:srgbClr val="ff0000"/>
                </a:solidFill>
                <a:latin typeface="Arial"/>
              </a:rPr>
              <a:t>водећем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ланцу - Примаза 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NK poly III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7631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2. На </a:t>
            </a:r>
            <a:r>
              <a:rPr b="1" lang="sr-CS" sz="2000" spc="-1" strike="noStrike">
                <a:solidFill>
                  <a:srgbClr val="ff0000"/>
                </a:solidFill>
                <a:latin typeface="Arial"/>
              </a:rPr>
              <a:t>заостајућем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 ланцу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19040" indent="-3826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Примаз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19040" indent="-3826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NK poly III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19040" indent="-3826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NK poly I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19040" indent="-3826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Лигаза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1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која повезује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1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000" spc="-1" strike="noStrike">
                <a:solidFill>
                  <a:srgbClr val="0000ff"/>
                </a:solidFill>
                <a:latin typeface="Arial"/>
              </a:rPr>
              <a:t>Оказакијеве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1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ff"/>
                </a:solidFill>
                <a:latin typeface="Arial"/>
              </a:rPr>
              <a:t>ф</a:t>
            </a:r>
            <a:r>
              <a:rPr b="1" i="1" lang="sr-Latn-CS" sz="2000" spc="-1" strike="noStrike">
                <a:solidFill>
                  <a:srgbClr val="0000ff"/>
                </a:solidFill>
                <a:latin typeface="Arial"/>
              </a:rPr>
              <a:t>рагмент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sr-CS" sz="2400" spc="-1" strike="noStrike">
                <a:solidFill>
                  <a:srgbClr val="000000"/>
                </a:solidFill>
                <a:latin typeface="Constanti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1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2" name="Picture 4" descr="Enzymes%20at%20Replication%20Fork"/>
          <p:cNvPicPr/>
          <p:nvPr/>
        </p:nvPicPr>
        <p:blipFill>
          <a:blip r:embed="rId1"/>
          <a:stretch/>
        </p:blipFill>
        <p:spPr>
          <a:xfrm>
            <a:off x="2819520" y="1860480"/>
            <a:ext cx="6172200" cy="4716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7T11:26:11Z</dcterms:created>
  <dc:creator>Olivera</dc:creator>
  <dc:description/>
  <dc:language>en-US</dc:language>
  <cp:lastModifiedBy>Korisnik</cp:lastModifiedBy>
  <dcterms:modified xsi:type="dcterms:W3CDTF">2021-11-15T15:16:37Z</dcterms:modified>
  <cp:revision>101</cp:revision>
  <dc:subject/>
  <dc:title>2-Humani genom</dc:title>
</cp:coreProperties>
</file>